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052-4AB9-43D4-B164-C042A71F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B88-6EBE-408F-8385-E10F451F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3CE-0461-4D6E-816B-847DB6EA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8CE-C9C2-42AF-BBCC-D216BA2B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7EAC-5628-44F4-9A4F-A43AC0B6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2D1-14C4-4FC3-A099-D8AE17C5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3FB-8C72-431E-96CB-E37F5878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2F2-C16F-4E4B-B915-0A0C45EF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BCE-0FB8-4E6E-9F60-41F7406B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3EF-287A-400D-B506-6EB3064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6CC-85CB-4BA3-AB02-928C10F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761-9A2C-4B1E-BA71-9C48E63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01D-5193-4B33-A307-A7FC42635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Story"/>
              </a:rPr>
              <a:t>Fairytales, Fables, Myths and Legen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Story"/>
              </a:rPr>
              <a:t>A ride through the genr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F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Fables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are short stories that come from oral tradition, and have to do with everyda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Characters can be human or animals with human character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Fables teach a lesson or a m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http://www.jiveysoft.com/folktales/funnylittlewoman.jpg"/>
          <p:cNvPicPr/>
          <p:nvPr/>
        </p:nvPicPr>
        <p:blipFill>
          <a:blip r:embed="rId1"/>
          <a:stretch/>
        </p:blipFill>
        <p:spPr>
          <a:xfrm>
            <a:off x="5867280" y="838080"/>
            <a:ext cx="2857680" cy="3238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s of Folk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jiveysoft.com/folktales/sevenbrothers.jpg"/>
          <p:cNvPicPr/>
          <p:nvPr/>
        </p:nvPicPr>
        <p:blipFill>
          <a:blip r:embed="rId2"/>
          <a:stretch/>
        </p:blipFill>
        <p:spPr>
          <a:xfrm>
            <a:off x="228600" y="838080"/>
            <a:ext cx="2857680" cy="323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jiveysoft.com/folktales/tikkitikkitembo.jpg"/>
          <p:cNvPicPr/>
          <p:nvPr/>
        </p:nvPicPr>
        <p:blipFill>
          <a:blip r:embed="rId3"/>
          <a:stretch/>
        </p:blipFill>
        <p:spPr>
          <a:xfrm>
            <a:off x="4572000" y="3505320"/>
            <a:ext cx="285768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jiveysoft.com/folktales/lonpopo.jpg"/>
          <p:cNvPicPr/>
          <p:nvPr/>
        </p:nvPicPr>
        <p:blipFill>
          <a:blip r:embed="rId4"/>
          <a:stretch/>
        </p:blipFill>
        <p:spPr>
          <a:xfrm>
            <a:off x="1600200" y="3505320"/>
            <a:ext cx="2857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Fairy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Fairy Tales </a:t>
            </a:r>
            <a:r>
              <a:rPr b="0" i="1" lang="en-US" sz="3200" spc="-1" strike="noStrike">
                <a:solidFill>
                  <a:srgbClr val="000000"/>
                </a:solidFill>
                <a:latin typeface="Story"/>
              </a:rPr>
              <a:t>are a type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of folkta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Fairytales always involve elements of magic, as well as good triumphing over ev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mages.amazon.com/images/P/0823404706.01.LZZZZZZZ.jpg"/>
          <p:cNvPicPr/>
          <p:nvPr/>
        </p:nvPicPr>
        <p:blipFill>
          <a:blip r:embed="rId1"/>
          <a:srcRect l="9184" t="6739" r="9659" b="9055"/>
          <a:stretch/>
        </p:blipFill>
        <p:spPr>
          <a:xfrm>
            <a:off x="5791320" y="914400"/>
            <a:ext cx="320040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rgr-static1.tangentlabs.co.uk/media/9781404853362/once-upon-a-time-writing-your-own-fairy-tale.jpg"/>
          <p:cNvPicPr/>
          <p:nvPr/>
        </p:nvPicPr>
        <p:blipFill>
          <a:blip r:embed="rId2"/>
          <a:stretch/>
        </p:blipFill>
        <p:spPr>
          <a:xfrm>
            <a:off x="152280" y="990720"/>
            <a:ext cx="466740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 of Fairyt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http://4.bp.blogspot.com/_6JPrNHnRVZI/Rg58si7djsI/AAAAAAAAALY/_lzZyq1shQY/s320/img_Stinky_Cheese_Man_book_cover.jpg"/>
          <p:cNvPicPr/>
          <p:nvPr/>
        </p:nvPicPr>
        <p:blipFill>
          <a:blip r:embed="rId3"/>
          <a:stretch/>
        </p:blipFill>
        <p:spPr>
          <a:xfrm>
            <a:off x="4191120" y="3581280"/>
            <a:ext cx="2400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Myths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are symbolic tales of the distant, timeless past, believed to be true and sacred, with humans demonstrating extra-human or heroic characteristic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Myths explain phenomenon (something extraordinary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 of My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4.bp.blogspot.com/_M21-q1qmSDo/SlPq1gfYfPI/AAAAAAAADm4/KETOOQ95fgM/s400/book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10000" cy="3809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pacaritambo.com/images/Books/EgyptianMythsHBKids.jpg"/>
          <p:cNvPicPr/>
          <p:nvPr/>
        </p:nvPicPr>
        <p:blipFill>
          <a:blip r:embed="rId2"/>
          <a:stretch/>
        </p:blipFill>
        <p:spPr>
          <a:xfrm>
            <a:off x="6248520" y="1752480"/>
            <a:ext cx="2385720" cy="312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pacaritambo.com/images/Books/RomanMyths_kids.gif"/>
          <p:cNvPicPr/>
          <p:nvPr/>
        </p:nvPicPr>
        <p:blipFill>
          <a:blip r:embed="rId3"/>
          <a:stretch/>
        </p:blipFill>
        <p:spPr>
          <a:xfrm>
            <a:off x="380880" y="1752480"/>
            <a:ext cx="244332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Story"/>
              </a:rPr>
              <a:t>Legends </a:t>
            </a: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focus on individuals and their accomplishments and involve a high degree of exaggeration and humor (typically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Legends are often told as if they were a historic e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ory"/>
              </a:rPr>
              <a:t>Many times they are considered to be based on distorted fact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tory"/>
              </a:rPr>
              <a:t>Example of Lege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blog.mlive.com/chronicle/2008/05/large_sleepingbear.jpg"/>
          <p:cNvPicPr/>
          <p:nvPr/>
        </p:nvPicPr>
        <p:blipFill>
          <a:blip r:embed="rId1"/>
          <a:stretch/>
        </p:blipFill>
        <p:spPr>
          <a:xfrm>
            <a:off x="2971800" y="1143000"/>
            <a:ext cx="3095640" cy="3759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www.jiveysoft.com/folktales/bluebonnet.jpg"/>
          <p:cNvPicPr/>
          <p:nvPr/>
        </p:nvPicPr>
        <p:blipFill>
          <a:blip r:embed="rId2"/>
          <a:stretch/>
        </p:blipFill>
        <p:spPr>
          <a:xfrm>
            <a:off x="0" y="3124080"/>
            <a:ext cx="2925720" cy="350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s://www.inspire4less.com/productimages/9780698113602.jpg"/>
          <p:cNvPicPr/>
          <p:nvPr/>
        </p:nvPicPr>
        <p:blipFill>
          <a:blip r:embed="rId3"/>
          <a:stretch/>
        </p:blipFill>
        <p:spPr>
          <a:xfrm>
            <a:off x="6095880" y="2895480"/>
            <a:ext cx="28958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13:35:11Z</dcterms:created>
  <dc:creator>127hollandm</dc:creator>
  <dc:description/>
  <dc:language>en-US</dc:language>
  <cp:lastModifiedBy>127paire</cp:lastModifiedBy>
  <dcterms:modified xsi:type="dcterms:W3CDTF">2011-10-26T13:49:08Z</dcterms:modified>
  <cp:revision>6</cp:revision>
  <dc:subject/>
  <dc:title>Fairytales, Folktales, Myths and Legends</dc:title>
</cp:coreProperties>
</file>